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33E6A-B1B3-4BD9-9077-F8D8478F5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E9BCD-72E5-4F52-8A44-F99A84EAE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BA576-A861-4794-AEEB-A8CB789DD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30B2D-8EBA-4102-B889-F14167BF1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12A9A-2D77-4C12-8A61-FE465EDF5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9075E-9963-4EFC-AD3D-5411062AD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FC8E9-738B-495B-ABDC-0207676FC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B640E-A508-49FB-8A4A-259527461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B50A5-DF62-4771-9492-1F8882516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5B8E8-CE83-4C18-BB69-6F6756706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3D4E1-2D5E-4D20-83FB-F33066670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0391-1D9B-4E12-B54B-A3F1CFF97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B445-EAC9-4188-AEDA-C9DE98D26E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32000" y="270792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p:nvPr/>
        </p:nvSpPr>
        <p:spPr>
          <a:xfrm>
            <a:off x="684360" y="3213000"/>
            <a:ext cx="7705440" cy="2831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ecan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z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him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iologic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corpului omenesc, alcătuită în principal din elemente naturale, native, dar şi dintr-o îndelungată şlefuire civilizatoar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sufletească, rezultat aproape integral al eforturilor de înnobilare umană;</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etică a vastelor relaţii dintre oameni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ambientală a locului şi rezultatele muncii omeneşti.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courile reflectării frumuseţii din realitate;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pacităţile demiurgice ale omului de artă care, pornind de la lumea reală, făureşte o realitate nouă.[…]</a:t>
            </a:r>
            <a:endParaRPr b="0" lang="en-US" sz="1200" spc="-1" strike="noStrike">
              <a:solidFill>
                <a:srgbClr val="000000"/>
              </a:solidFill>
              <a:latin typeface="Arial"/>
            </a:endParaRPr>
          </a:p>
        </p:txBody>
      </p:sp>
    </p:spTree>
  </p:cSld>
  <p:transition spd="slow" advTm="5000">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spd="slow" advTm="5000">
    <p:cover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spd="slow" advTm="5000">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9a3</cp:lastModifiedBy>
  <dcterms:modified xsi:type="dcterms:W3CDTF">2012-06-18T11:07:10Z</dcterms:modified>
  <cp:revision>41</cp:revision>
  <dc:subject/>
  <dc:title>SALARIUL</dc:title>
</cp:coreProperties>
</file>